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4.gif" ContentType="image/gif"/>
  <Override PartName="/ppt/media/image7.wmf" ContentType="image/x-wmf"/>
  <Override PartName="/ppt/media/image12.wmf" ContentType="image/x-wmf"/>
  <Override PartName="/ppt/media/chimes.wav" ContentType="audio/x-wav"/>
  <Override PartName="/ppt/media/image16.jpeg" ContentType="image/jpeg"/>
  <Override PartName="/ppt/media/image5.wmf" ContentType="image/x-wmf"/>
  <Override PartName="/ppt/media/image6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7D77C-E83C-44EA-AFE5-054C589F3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2CEB-E77A-4248-A41F-29E2D797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925A7-6C31-43D5-8C8F-11E07695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3EC56-4081-4A83-908C-E26FDFB9B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B292F-1576-4097-A336-2CA6BA60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178D-65DF-4912-AC03-961D78844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0458-8513-4468-8B68-21504B64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6028B-CF74-4648-BDB9-B79CD9C2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80B3A-4FAC-49F5-91C2-A43C47114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2292-D318-4777-B0CD-3F1C411E9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6343-CC16-4ACC-802C-1DFBB957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DF690-ECFE-4D98-A0FC-BA0818CA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AEFBB-BFD5-4108-A6BE-C8B580DA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5D042-A27C-4E43-9B33-BBDA5B5D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23AF-ACAD-414E-A4A2-22049264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56DD-A023-4C35-8AA0-EB0E8ED6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A974E-8FCB-4ACF-8AAA-C4C7F98C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15230-A632-45F5-A93C-F2AFD70B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27B9-E77A-48FD-8D8C-9952BEE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8E43C-58F9-4D2E-B3CC-B53E2364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783D9-9385-4AEE-ADB4-32381992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5C913-8B5F-43AB-8BC4-5F1CCE6F1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18D87-B0EA-4A83-8BE3-12F7498B6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8DA0A-C683-495A-8772-83AB93F3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B5440-67AA-45D9-8804-11631215F3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7327A-8E43-49A4-8C01-FB715E5794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fdef6"/>
                </a:solidFill>
                <a:latin typeface="Arial"/>
              </a:rPr>
              <a:t>Personification</a:t>
            </a:r>
            <a:endParaRPr b="0" lang="en-US" sz="8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water beckoned invitingly to the hot swimme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4108320" cy="2408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2"/>
          <a:stretch/>
        </p:blipFill>
        <p:spPr>
          <a:xfrm>
            <a:off x="5003640" y="3860640"/>
            <a:ext cx="363888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snow whispered as it fell to the ground during the early morning hou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5987880" y="3833640"/>
            <a:ext cx="31561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china danced on the shelves during the earthquake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556000" y="3933720"/>
            <a:ext cx="390204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car engine coughed and sputtered when it started during the blizzard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755640" y="3645000"/>
            <a:ext cx="77770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Can you think of your own example of personification for leaves falling to the ground from the tree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-1611360"/>
            <a:ext cx="9144000" cy="1052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danced to the grou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hopped off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waved goodbye to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eaves cried out in pain as they fell from the tre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 House Awak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5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ouse awakes and stretches it chimneys to the sk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door opens to greet the passers b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urtains open and the windows peer 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china dances on the mantelpiece as the family start to shou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5257800" y="838080"/>
            <a:ext cx="2637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9640" y="1557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What is the object being personified?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1187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meaning of the personific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wind sang her mournful song through the falling leave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4716360" y="3141720"/>
            <a:ext cx="41022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microwave timer told me it was time to turn my TV dinner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2627280" y="3645000"/>
            <a:ext cx="432108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video camera observed the whole scene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3348000" y="3645000"/>
            <a:ext cx="2757600" cy="27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strawberries seemed to sing, "Eat me first!"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4067280" y="4149720"/>
            <a:ext cx="145080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rain kissed my cheeks as it fell.</a:t>
            </a:r>
            <a:br>
              <a:rPr sz="4800"/>
            </a:b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684360" y="2924280"/>
            <a:ext cx="247968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dfdef6"/>
                </a:solidFill>
                <a:latin typeface="Arial"/>
              </a:rPr>
              <a:t>The daffodils nodded their yellow heads at the walkers.</a:t>
            </a:r>
            <a:r>
              <a:rPr b="0" lang="en-US" sz="48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332000" y="3789360"/>
            <a:ext cx="64008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1:49:01Z</dcterms:created>
  <dc:creator>Lucy Rotherham</dc:creator>
  <dc:description/>
  <dc:language>en-US</dc:language>
  <cp:lastModifiedBy>Jamison Renfro</cp:lastModifiedBy>
  <dcterms:modified xsi:type="dcterms:W3CDTF">2007-11-13T02:24:03Z</dcterms:modified>
  <cp:revision>7</cp:revision>
  <dc:subject/>
  <dc:title>Personification</dc:title>
</cp:coreProperties>
</file>